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DAD8-1CF2-4F38-B1D1-942F32709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58B4-B4D2-42B0-ADD3-8B42A35B0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7503-A5BB-45AF-8DB2-956584B7B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7821-1BB4-4890-8CF8-EE73551D9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B3C2F-2CC5-4C02-9E7B-48FF675E8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73F0A-EC1C-4A1D-8EA9-98C6E1E58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F2A49-02E4-413F-A56E-898449547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4A368-8CC8-45D0-8A3C-B39B3F199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1743F-3B68-4EBA-AD58-C1F22C0E4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285A6-626C-4999-98B6-FCC0764A1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0D04E-720B-401F-A210-20EA9B296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3907-3401-49A0-B1CB-B8FC698EA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C5EF5-A8AA-4BA8-AB19-2CC648FA8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EBA82-3DE6-4DA0-A666-9582B2E5B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44529-A769-4375-A5FF-F553728FA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AE80F-B6BB-47D3-8C55-23AC7E47B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9C53F-C624-46D3-AACC-208BC5847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4F25-4E3F-48F5-92CD-7505468E9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F646-B48A-475C-A62C-1D2995916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9EC3-B7FD-4B37-9A6E-98D90F28E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7AF8-2F87-423D-B2BA-5CACD4F93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A636-D412-4C11-B8E8-66F22CC1F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C376-8EAF-47C2-A1F0-FF614EEFE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700B-CFA3-4AFF-B2D8-2F0B31ED2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C4E5F-C518-497D-BD6D-EA62628F78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F02C8-50CA-439E-9B5F-7D9C3F43E5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1773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2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생활과 일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705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상생활에서 ‘일’이 갖는 의미는 무엇일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’은 자본주의 사회의 경제활동과 어떤 차이가 있을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실천적 관심의 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실천적 관심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의해서 지배되는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에서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일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은 특별한 의미를 갖는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이란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어떤 기획에 기초한 외부 세계에서의 행위로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체적인 운동을 통하여 기획된 사태를 일으키려는 의도를 특징으로 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gt;(Schutz, 1973: 212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단순한 생각의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숨겨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체적인 운동을 요구하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드러난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제활동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임금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재생산 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소비활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아는 일 속에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을 통하여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자신의 현재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과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미래를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특정한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간 차원으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통합한다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말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글쓰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노동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책 읽기 등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운동을 통해 내적인 시간에서 외적 시간으로 전환이 이루어진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외적인 공간과 시간 속에서 발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일하는 자아만이 자신을 주체로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그리고 현재형으로 경험하며 하나의 통일체로 실현한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타인과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소통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한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회적인 ‘일’을 수행하는 행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유의 기호인 ‘표현적인 장’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일상세계의 서로 다른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공간적인 전망을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 조직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내 신체의 지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여기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공간 좌표의 중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&lt;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현재적인 도달거리 내의 세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자아의 온전한 흐름을 통해 일상에서 실천적으로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합한 부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을 발견하고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것이 우리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사유흐름의 형식과 내용을 결정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인간학적인 일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자본주의 사회의 경제활동으로 환원되지 않는 “일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객관주의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대한 비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1:23:53Z</dcterms:created>
  <dc:creator>Staff</dc:creator>
  <dc:description/>
  <dc:language>en-US</dc:language>
  <cp:lastModifiedBy>Staff</cp:lastModifiedBy>
  <dcterms:modified xsi:type="dcterms:W3CDTF">2009-03-23T05:54:27Z</dcterms:modified>
  <cp:revision>6</cp:revision>
  <dc:subject/>
  <dc:title>4-2 일상생활과 일</dc:title>
</cp:coreProperties>
</file>